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237-DFBB-44E9-AC66-217E443B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314-08F8-4582-B211-A8421483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A86-604E-4034-B0AC-D483DC9F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A32-C6D7-444C-8A30-9D5590BB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61C-CE98-4AC1-9AD1-7645E056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86B-5866-4C0D-ABBC-FA203386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BA7-CDBD-42EC-9195-14708274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7A8-329D-491E-95A1-B7309334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808-ECE5-4486-A4F8-A66430F5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2D4-2D16-4002-A236-2EBEC690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1F9-58D7-49E5-9D99-862E1C57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1EC-B6D5-4845-A2BC-6150B81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66BF-7785-4116-83B7-5DE0D0861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муниципальная общеобразовательная школа №1 г.Строител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775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мастер-класса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аспектный анализ текста как средство формирования коммуникативной компетен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ева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ОПЫТ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s://im3-tub-ru.yandex.net/i?id=022a79510e828f1bd1fc183b153017a3&amp;n=33&amp;h=215&amp;w=323"/>
          <p:cNvPicPr/>
          <p:nvPr/>
        </p:nvPicPr>
        <p:blipFill>
          <a:blip r:embed="rId1"/>
          <a:stretch/>
        </p:blipFill>
        <p:spPr>
          <a:xfrm>
            <a:off x="0" y="0"/>
            <a:ext cx="3635280" cy="306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s://im2-tub-ru.yandex.net/i?id=17b8d0879ca14ddd28d8c3cd84d59a69&amp;n=33&amp;h=215&amp;w=322"/>
          <p:cNvPicPr/>
          <p:nvPr/>
        </p:nvPicPr>
        <p:blipFill>
          <a:blip r:embed="rId2"/>
          <a:stretch/>
        </p:blipFill>
        <p:spPr>
          <a:xfrm>
            <a:off x="5508720" y="0"/>
            <a:ext cx="3635280" cy="263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s://im2-tub-ru.yandex.net/i?id=4d1690021daf940d6db2e366e2d078d7&amp;n=33&amp;h=215&amp;w=392"/>
          <p:cNvPicPr/>
          <p:nvPr/>
        </p:nvPicPr>
        <p:blipFill>
          <a:blip r:embed="rId3"/>
          <a:stretch/>
        </p:blipFill>
        <p:spPr>
          <a:xfrm>
            <a:off x="0" y="3933720"/>
            <a:ext cx="3733920" cy="292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https://im1-tub-ru.yandex.net/i?id=5813cd5829e48a9d456b6784226681a6&amp;n=33&amp;h=215&amp;w=292"/>
          <p:cNvPicPr/>
          <p:nvPr/>
        </p:nvPicPr>
        <p:blipFill>
          <a:blip r:embed="rId4"/>
          <a:stretch/>
        </p:blipFill>
        <p:spPr>
          <a:xfrm>
            <a:off x="5580000" y="3860640"/>
            <a:ext cx="3564000" cy="299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dofreefashion.com/wp-content/uploads/2012/12/Psycho-cybernates.jpg"/>
          <p:cNvPicPr/>
          <p:nvPr/>
        </p:nvPicPr>
        <p:blipFill>
          <a:blip r:embed="rId5"/>
          <a:stretch/>
        </p:blipFill>
        <p:spPr>
          <a:xfrm>
            <a:off x="3276720" y="1989000"/>
            <a:ext cx="2808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.Простые вопросы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твечая на них, нужно узнать какие -то факты, вспомнить, воспроизвести некую информацию: «Кто описывается в рассказе?» , «Что объединяет этих людей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.Творческие вопрос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Когда в вопросе есть частица «бы»,  в формулировке есть элементы условности, предположения, фантазии, прогноза: «Что бы изменилось, если бы...?», «Как вы думаете ,как будут развиваться   события дальше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 Оценочные вопрос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Эти вопросы направлены на выяснение критериев оценки тех или иных событий, явлений, фактов: «Почему  что-то хорошо,  а что плохо?», «Чем один герой отличается от  другого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4. Практические  вопрос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Они направлены на установление взаимосвязи между теорией и практикой «Как бы вы поступили на месте героя?». Такая классификация помогает научить детей                        самостоятельно  задавать  вопросы к тексту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avivas.ru/img/news/201207/6565151721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36.media.tumblr.com/a6d0d58b4d06025033502dc455c38b11/tumblr_nagd4wvoHV1spsl5yo1_5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ww.funlib.ru/cimg/2014/101603/49436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dg55.mycdn.me/getImage?photoId=589800301934&amp;photoType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motivators.ru/sites/default/files/imagecache/main-motivator/motivator-396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coduspeha.e-stile.ru/images/rus/newsimg/bibliotek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pacoquinha.com/wp-content/uploads/2012/03/tv-com-nada-na-cabe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одня я узнал…            у меня получилось…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о интересно…           я смог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о трудно…                  я попробую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выполнял задание…    меня удивил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нял, что…                    мастер-класс дал м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перь я могу…                 для жизн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чувствовал, что…      я приобрел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citycelebrity.ru/userfiles/fairy%20tale(3)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опы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444600" y="712800"/>
            <a:ext cx="82548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57200" y="420840"/>
            <a:ext cx="83088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457200" y="347760"/>
            <a:ext cx="82296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38120" y="841320"/>
            <a:ext cx="81820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Овал 2"/>
          <p:cNvSpPr/>
          <p:nvPr/>
        </p:nvSpPr>
        <p:spPr>
          <a:xfrm>
            <a:off x="3132000" y="1917720"/>
            <a:ext cx="2952720" cy="27986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20"/>
          <p:cNvGrpSpPr/>
          <p:nvPr/>
        </p:nvGrpSpPr>
        <p:grpSpPr>
          <a:xfrm>
            <a:off x="4878360" y="4169520"/>
            <a:ext cx="3840120" cy="2477880"/>
            <a:chOff x="4878360" y="4169520"/>
            <a:chExt cx="3840120" cy="2477880"/>
          </a:xfrm>
        </p:grpSpPr>
        <p:sp>
          <p:nvSpPr>
            <p:cNvPr id="58" name="Овал 7"/>
            <p:cNvSpPr/>
            <p:nvPr/>
          </p:nvSpPr>
          <p:spPr>
            <a:xfrm rot="249000">
              <a:off x="4954320" y="4292280"/>
              <a:ext cx="3480840" cy="2232000"/>
            </a:xfrm>
            <a:prstGeom prst="ellipse">
              <a:avLst/>
            </a:prstGeom>
            <a:solidFill>
              <a:srgbClr val="ffff00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2"/>
            <p:cNvSpPr/>
            <p:nvPr/>
          </p:nvSpPr>
          <p:spPr>
            <a:xfrm>
              <a:off x="4965480" y="4872600"/>
              <a:ext cx="375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2. Творческие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вопросы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Группа 19"/>
          <p:cNvGrpSpPr/>
          <p:nvPr/>
        </p:nvGrpSpPr>
        <p:grpSpPr>
          <a:xfrm>
            <a:off x="684360" y="4292280"/>
            <a:ext cx="3665520" cy="2089080"/>
            <a:chOff x="684360" y="4292280"/>
            <a:chExt cx="3665520" cy="2089080"/>
          </a:xfrm>
        </p:grpSpPr>
        <p:sp>
          <p:nvSpPr>
            <p:cNvPr id="61" name="Овал 6"/>
            <p:cNvSpPr/>
            <p:nvPr/>
          </p:nvSpPr>
          <p:spPr>
            <a:xfrm rot="10800000">
              <a:off x="684360" y="4292280"/>
              <a:ext cx="3665520" cy="2089080"/>
            </a:xfrm>
            <a:prstGeom prst="ellipse">
              <a:avLst/>
            </a:prstGeom>
            <a:solidFill>
              <a:srgbClr val="953735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3"/>
            <p:cNvSpPr/>
            <p:nvPr/>
          </p:nvSpPr>
          <p:spPr>
            <a:xfrm>
              <a:off x="1110960" y="4716720"/>
              <a:ext cx="295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3. Оценочные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вопросы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Группа 18"/>
          <p:cNvGrpSpPr/>
          <p:nvPr/>
        </p:nvGrpSpPr>
        <p:grpSpPr>
          <a:xfrm>
            <a:off x="419400" y="310680"/>
            <a:ext cx="3309480" cy="2506680"/>
            <a:chOff x="419400" y="310680"/>
            <a:chExt cx="3309480" cy="2506680"/>
          </a:xfrm>
        </p:grpSpPr>
        <p:sp>
          <p:nvSpPr>
            <p:cNvPr id="64" name="Овал 4"/>
            <p:cNvSpPr/>
            <p:nvPr/>
          </p:nvSpPr>
          <p:spPr>
            <a:xfrm rot="16068600">
              <a:off x="881640" y="-46080"/>
              <a:ext cx="2384640" cy="3220560"/>
            </a:xfrm>
            <a:prstGeom prst="ellipse">
              <a:avLst/>
            </a:prstGeom>
            <a:solidFill>
              <a:srgbClr val="e428ae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4"/>
            <p:cNvSpPr/>
            <p:nvPr/>
          </p:nvSpPr>
          <p:spPr>
            <a:xfrm>
              <a:off x="684360" y="367200"/>
              <a:ext cx="2788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4. Практические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вопрос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Группа 17"/>
          <p:cNvGrpSpPr/>
          <p:nvPr/>
        </p:nvGrpSpPr>
        <p:grpSpPr>
          <a:xfrm>
            <a:off x="5212080" y="240480"/>
            <a:ext cx="3506400" cy="2279880"/>
            <a:chOff x="5212080" y="240480"/>
            <a:chExt cx="3506400" cy="2279880"/>
          </a:xfrm>
        </p:grpSpPr>
        <p:sp>
          <p:nvSpPr>
            <p:cNvPr id="67" name="Овал 3"/>
            <p:cNvSpPr/>
            <p:nvPr/>
          </p:nvSpPr>
          <p:spPr>
            <a:xfrm rot="147600">
              <a:off x="5256360" y="312840"/>
              <a:ext cx="3417840" cy="2135160"/>
            </a:xfrm>
            <a:prstGeom prst="ellipse">
              <a:avLst/>
            </a:prstGeom>
            <a:solidFill>
              <a:srgbClr val="ff0000"/>
            </a:solidFill>
            <a:ln cap="rnd"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15"/>
            <p:cNvSpPr/>
            <p:nvPr/>
          </p:nvSpPr>
          <p:spPr>
            <a:xfrm>
              <a:off x="5887080" y="808560"/>
              <a:ext cx="234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1.Простые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вопросы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.Простые вопросы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твечая на них, нужно узнать какие -то факты, вспомнить, воспроизвести некую информацию: «Кто описывается в рассказе?» , «Что объединяет этих людей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.Творческие вопрос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Когда в вопросе есть частица «бы»,  в формулировке есть элементы условности, предположения, фантазии, прогноза: «Что бы изменилось, если бы...?», «Как вы думаете ,как будут развиваться   события дальше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 Оценочные вопрос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Эти вопросы направлены на выяснение критериев оценки тех или иных событий, явлений, фактов: «Почему  что-то хорошо,  а что плохо?», «Чем один герой отличается от  другого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4. Практические  вопрос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Они направлены на установление взаимосвязи между теорией и практикой «Как бы вы поступили на месте героя?». Такая классификация помогает научить детей  самостоятельно  задавать  вопросы к тексту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43:13Z</dcterms:created>
  <dc:creator>Катенок</dc:creator>
  <dc:description/>
  <dc:language>en-US</dc:language>
  <cp:lastModifiedBy>Программист ЦОКО</cp:lastModifiedBy>
  <dcterms:modified xsi:type="dcterms:W3CDTF">2017-11-02T06:05:44Z</dcterms:modified>
  <cp:revision>52</cp:revision>
  <dc:subject/>
  <dc:title>При использовании шаблона ссылка на Pedsovet.su обязательна</dc:title>
</cp:coreProperties>
</file>